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F52B4-EA74-488A-832A-5CC5D045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5B2DC-6F8F-4BF0-B682-4A4F7A0C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B1534-7AF3-4FE3-A783-18795338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70034-446E-4965-A90B-4AAFE96F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90D0E-871C-4D5E-A441-AFBD4AEE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AC520-D857-43F8-9AED-80448FE7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1A404-BC46-4D0D-865B-F1F905CB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D1F5A-65FF-41C8-9D8B-C30AAE1C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C1B32-BC1D-46C8-BD63-B07BBA74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0748B-B94C-42B0-8BF2-14E05274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7B2A9-D943-4CC7-8D9C-759B691B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787BD-5419-4FDD-94BC-94F3F947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0E491-0CEA-4706-BE96-D1325DB0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96CE5-C416-468B-9201-0E3ADC10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C5599-A37C-4890-8C85-891385DE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23CCA-8539-4F02-B3A0-86373E82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B1200-ADC0-4423-B574-78378F29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72D04-E200-42A0-AA1A-BF8C1DC5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0A3B4-68B6-4DA9-96D4-E5C2DFF9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F0653-9FC4-4E46-AB0F-3B9753F8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18FFF-606A-4949-ADDB-BEBAF9D4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E8062-577A-41DB-BC7A-6064417F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BC8D8-E0BB-4012-9832-9EB380B1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E0A9-9C3E-4ED4-AE1C-4590B6EC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DFC39-EBF3-4416-9F18-01ED682C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21240-672F-420E-A0D1-D0CD1C1D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25585-D5A9-48FA-BC35-3356FC35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1D24F-3BA0-4F97-847E-AACE8E28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87325-AC5F-43B1-A31F-993CE19F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FF119-820F-4C8A-85C3-BDCC46AE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43CD9-479B-4AE4-8413-1CFAE198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7AC00-55AA-4B78-BEC7-9E95B210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8B1F3-BF41-451B-8B87-40CC9934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4C8D8-F446-4DB5-8399-353B80F0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F3A3-218F-496F-ABBB-C02B75C8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25D57-3354-4556-8AE6-0A331E66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76D67-FD0D-4BC0-9466-0F1A91E7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DBAFA-4734-427D-839B-78BE1376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40AC5-5796-4846-B975-289315FD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8E6FE-F8DE-4377-A94F-EB0F8571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7852B-8CA2-4904-AE06-A9C07C89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C521B-92D4-4F54-A848-CE17AF02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C88C0-D6E2-4BB1-8534-3B19D8CE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05645-5579-4B68-A2F2-7C0B179E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EC625-579E-4DBE-9664-CFAF4488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ECFF-0ADB-42DA-B7FA-19923A5C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34D0D-4913-4D24-83D1-C4E038A9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F0BB0-5581-49B5-AF3E-DA119E97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647B1-22DE-4A92-90D3-755FBD55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C7C38-2B53-4167-8C8C-FA8BC403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E3DF7-B8D6-45F6-B70F-FFC36308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0254D-8B37-44E6-BC87-6DDAA571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E88ED-A4FB-47FD-9050-06F37B2A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703D9-93B7-4EC0-9A2A-13910EEA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7D4C9-065C-40A5-AF57-985C0742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A7697-9F3F-4F0D-9673-668B17FF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E81A-70A9-41DA-A6E4-571DE895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52467-8D70-4D47-88B7-C44EF70E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F83EC-CA05-49BA-A135-7C56A38E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9FFA9-4C8F-4C3E-8EC3-43B91915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375D5-0888-407F-89B5-4576DBC5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51D19-CE61-4B36-A134-22C38DDF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58ABB-1815-46E2-B7E7-CF7DE84E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1C4AE-E80D-4EB0-95AF-74954981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9987EC-065E-4D5D-BD57-C499438C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82E32A-F7B1-40E1-AB2F-CE23575F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455F8-3B8C-42A3-9BA1-59D28C6C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BD2E-87A0-4C75-A808-5F8BF056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D95B09-5E5E-43A7-A585-FCD86C71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C33C4-979B-4569-AC9E-2593DABA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960EC8-ED67-4595-886C-DA3AD9C0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71BA99-9AB4-4ACF-9D1D-064974F6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DF9721-66D2-4F8E-980A-0FAF5F9C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A3B21E-6503-48E9-A91D-C1BE246B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4E1A42-2B06-4234-AA54-D880B820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886616-5873-486A-A6D5-56F4E6EB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77906-A6AC-4568-AF93-160804EF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F71A61-D896-4F43-98AF-B758F8AB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AA0D-D1C0-4B9E-9BFD-FF241D2F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02B901-2115-4EF4-B405-6BCA017F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46107B-D340-4593-88DF-2FE53FA6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B4A58B-1454-4DD0-8CA9-92D14D4C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9506BD-EF89-45FA-950E-5D9E6A54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8B3575-AB6D-42B0-82DB-B0FCD13A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518E11-03B3-4CDB-B200-554E3F5E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86EC37-EC07-46E1-BB28-24EDAD21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3E798-D59B-46FD-9E29-887D7BC2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C88840-DE1D-44C7-9746-90F863D6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7F9B7B-CF68-4361-907A-4E0B46A7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8A42-A0A5-4EE0-8333-DF728503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F2F326-7789-4C07-9093-0AE5D06C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B7CB3B-E151-452D-8336-9EB07574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E4DAFE-BD78-4C52-8A44-5FE6AAA3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CD97DC-B70A-4BC9-88BA-3C1D0F47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DC76F-DB6F-4C00-8568-37665C10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947CC-04A7-428C-8F41-97E21D12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DD955C-E1C4-4A64-8E5A-65CD1CC9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19E6AF-92A8-4A29-A47B-155367B2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34903D-9275-4335-B8D3-FB759390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F694F2-D589-49BA-B050-4E00E2A7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51E1-191E-4EDC-AC74-A6610D1A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BB101E-F20D-4094-A327-3402F1EE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AA9F87-B99B-414C-80C5-999280BF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389AC-B034-4175-B9AC-BEA68017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C2D46-377F-4F72-A207-29DA27D0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2BFD-957B-4EAA-8073-84B3C3DB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0288-FFAC-40B7-B078-A5BAFCD9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C2F7-E236-46F1-8908-0F3D89F0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A591-F20F-4C4B-8C4F-CEC47BF6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CC74-4100-4EF9-B3EC-4DC12036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6779C-FA18-4C44-946C-13CE4196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59F7D-1FFE-4D93-AA6F-B1AA4132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05E73-2E78-427F-AB27-CAEB6A83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0A6CB-BD4D-41DB-9931-E402DA63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A0E4-2D55-4FDF-85FB-935B7968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B1FCD-975C-4C2C-856B-B44A8E86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63A1-F9C6-460B-B7BE-41CF7EE1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88A98-D4DA-48AE-B6D7-0E970848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DA3C6-25A4-467F-921E-C080C4EB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4CFB7-E174-4AA5-988F-B936F260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0A2C5-F046-495D-9B86-2AF5AA7B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61DAD-FCFE-418C-9ABB-355FC349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A3AF0-D466-4A52-B25E-B008CC02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E472B-92C8-4D03-A189-E9B09AE9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F70B2-E461-45D8-8CED-03339681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29F92-610B-482C-8B21-13B28DF8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941A-AF72-45EE-94DA-94F368B7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C163F-27B6-4064-A574-800CC4F8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FA7B1-FAD1-475A-A122-1D9F1576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0BDF1-149F-42FA-B7BE-77FD1C22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8A892-2DB0-412A-BC87-F972DD1B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A717E-4282-43AF-87B3-8783AC13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63595-F7CA-40E7-956E-33F59DCA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CB169-21FE-4A01-8AEB-1BA79EC9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D2AA6-9B0D-4400-AAA0-51C8195D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032ED-BF9B-4EA3-9CC0-49021455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FC013-A3D7-45A9-A848-FC6D9654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DDC39-59EE-4084-8489-E9ADB92D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B4166-DB59-49B2-A934-08037EBD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A29D2-9CD2-4882-A691-D363678A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DEDC7-4D3A-4ACE-AEDF-2BE29217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A5788-DF68-42C1-98CF-748416CF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3A128-C0CC-4445-9EDE-6BE32790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DD1B1-FBAC-41EF-90FA-CDF297FC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C1515-36A0-4FD5-9A11-24831F6A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CD229-AF34-4ADA-A727-9B6C3CED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65ED1-082A-49B6-A0BD-8053CEED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22345-3914-456C-B57F-72AD498E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34F0C-8DB7-4667-AED5-8F864876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19C77-EFA0-4788-AF5D-4D8EA82E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FA9F9-F616-49CE-8D56-4CC00B82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E18CE-E76D-4057-B54A-D736E38C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B0404-2374-43B0-B5D4-60F55438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234FFE-EB36-43B0-B777-549F6C00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E5B55-2294-4C6A-AFC9-B445F450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6C827-D64E-4843-BCFE-FAC5E891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0074B-844B-4370-9FC3-33BD77D4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B62483-C643-4ED2-81F9-C2CB12BC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F3E35-BEF5-407A-B00B-E0689B12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14948-AA9D-4913-B2A7-93E62900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E453DB-2722-48E3-A0CE-AB7BA173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ABD13-2610-45BC-9EA9-449D76EF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118E1B-C4AD-4582-8E0F-C635CE07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FADF7-EDB7-443B-953C-A4BE0E66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536C7-FF2C-4170-94E7-F3791EE3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EDEBE-D9F5-462E-8272-117A3893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B491C-3309-462A-9025-ABDE4AB9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64F2D-5FE7-4143-8BF1-B7A1E7F6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FE01B-0137-4418-AA11-150CC509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5A69B-4A18-47E0-84E4-EF706265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8F73-21E7-49CF-AD77-54E4F503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7A3CF-3D8F-4A99-B06B-B1D6B001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19213-C6DF-4809-88D9-FC332683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6FE51-C938-4B39-A6AC-9D5E7404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3B4AD-1DC7-4ED6-B3B0-DF372EBB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549D1-9C3C-4D48-9ECE-6945C669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478EC5-B090-487E-8C92-731EDE70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FB3DDC-3D3B-4F55-B744-865BDD91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DF083C-ECB5-4E99-8A8C-E73658E6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6C4D05-7F71-4EA1-BF66-FA50F668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6D5C8A-AC1E-4662-8AD0-5D6F3A5E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0626C-3D44-4322-94BF-D656A8E8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A6BC5C-7F30-47A2-A1C8-83849643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433B47-EE06-4177-802A-6CEF8F25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26AA98-D673-463C-968E-4A88801D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DDEB8E-1A2C-4444-9ED1-8E008635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B02F88-0392-448D-ACE7-4FDF3DE6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0A9C86-DD04-4177-888D-872FCFEF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FCE15B-C689-436E-8B5F-BC6CD88D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3C200-96B5-46E7-941D-CC8AD0B8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70976-30D1-4747-A834-E856D93F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A2C6D-B1D3-4034-A6AE-0E116EEC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8C40-7AD1-4A83-ABFE-12C05FE799EB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FBFE-C20D-4A7C-BD9C-4E38716769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5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B69C-6969-4628-83D9-ADD7F24E894E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16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295F-3685-46DD-A855-09134D89515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7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9D35-02FB-4A14-93B4-9CC9EF65830A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4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E529-93BC-44DB-8230-0559AD4247B8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2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962D-791C-46AD-B743-C8DBA30F9551}" type="slidenum">
              <a:rPr b="0" lang="ar-S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8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3E0B-A09F-4732-9939-16F9BB7CE6E3}" type="slidenum">
              <a:rPr b="0" lang="ar-S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E279-611C-4A46-B7C6-C0F3300104E8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4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EEE0-D2E6-472B-8E39-0063B69F3BFC}" type="slidenum"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2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80B2-CEEA-4DBF-9FE4-4F674C203434}" type="slidenum"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7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8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2EAA-9B89-4D3A-AFF3-802162B2116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3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4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4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4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1C3B-1C05-4961-932C-20CB81667DE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FB08-AB3E-436D-93E1-47D35110FC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334E-9F03-4717-951C-26B9D6D504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2330-08CE-4550-BCA1-820831E73E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7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/>
          </p:nvPr>
        </p:nvSpPr>
        <p:spPr>
          <a:xfrm>
            <a:off x="1403280" y="259920"/>
            <a:ext cx="6337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  <a:cs typeface="Monotype Koufi"/>
              </a:rPr>
              <a:t>كيف تكون مشرفاً تربوياً  مبدعا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Simple Outline Pat"/>
              </a:rPr>
              <a:t>محاض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أعدّها ويقدمها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محمد بن حسن الشمران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مدير إدارة الإشراف التربو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الإدارة العامة للتعليم بالعاصمة المقدس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r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7777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cc00"/>
                </a:solidFill>
                <a:latin typeface="Arial Black"/>
                <a:cs typeface="Monotype Koufi"/>
              </a:rPr>
              <a:t>ثالثاً :  خصائص الإبداع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قدرة على اكتشاف علاقات  جديد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قدرة على استنطاق تلك العلاقات والإفصاح عنها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ربط بين العلاقات الجديدة وبين العلاقات القديمة التي سبق لغيره اكتشافها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توظيف العلاقات الجديدة لتحقيق أهداف معين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إحجام عن الأخذ عن الآخرين إلا بالقدر الذي يخدم ويحقق الإبداعية لديه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قدرة على ملاحظة التناقضات والنواقص في البيئ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2698560" y="333360"/>
            <a:ext cx="388908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  <a:cs typeface="Monotype Koufi"/>
              </a:rPr>
              <a:t>صفات المبد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ذهن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تلك قدرة عالية على التفكير الإبداعي ويحب التجدي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تلك ذاكرة قوية في بعض الأمور ، وقادر على الإلمام بالتفاصي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حتاج إلى فترات تفكير طويل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فضل التعامل مع الأشياء المعقدة والمتنوعة والتي تحتمل أكثر من تفسي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عتمد على الملاحظة الشديدة لكل المسارات والأساليب للموضوع الذي يه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ديه قدرة عالية على تلخيص الأشياء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ركز على النقد البناء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/>
          </p:nvPr>
        </p:nvSpPr>
        <p:spPr>
          <a:xfrm>
            <a:off x="826920" y="622080"/>
            <a:ext cx="69948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هتم بالأشياء التي تحتمل الشك ولا يمكن التنبؤ ب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دائم التساؤ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متعدد الميول والاهتمام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قترح أفكاراً قد يعتبرها الآخرون غير معقول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تمتع بالاستقلالية في الرأي والتفكي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سأل كثير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فكر بشكل أفضل في فترات الهدوء والفراغ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بطيء في تحليل المعلومات سريع في الوصول للح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نفس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قادر على التكيف بسرعة مع المتغير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حب التميز بعمله ولا يحب التقلي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متفائل  بطبيعت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عتمد على أحاسيسه ومشاعره كثير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ا ينهزم ولا يهرب من المشكلة بسرع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هتم ويتحمس لأفكاره ومشروعاته الشخصية ويتبناها ويثبت وراءها حتى ينفذ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الثقة بالنفس ، والشعور بالقدرة على تنفيذ ما يريد 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ا يستسلم بسهول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لك قدرة كبيرة على تحمل المسؤولية في الأمور التي يحب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بادر بالعمل ومستعد لبذل الجهد فيما يحب ، وذو طموح عالٍ جد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794088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ea typeface="Akhbar MT"/>
              </a:rPr>
              <a:t>3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عمل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ا يحبذ القيام بالأعمال الروتين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فضل القيام بالأعمال التي تنطوي على التحد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يل إلى المغامرة ويحب التجريب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قادر على التعامل مع المواقف الغامضة وحل المشكلات الصعب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ثابر في عمله ، و يتابع أفكاره بجدية بالرغم من معارضة الآخرين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سعى دائماً لتحسين عمل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تساءل عن تطبيقات النظريات والمبادئ القائم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إنسان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حساس ولديه روح الدعابة والفكاهة في ضوء ما تمليه الأخلاق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مهذب ولكنه صريح ومستقل ولا يحبذ السلطة أو التسلط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قادر على مقاومة ضغوط الجماع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عمل حتى لو قاومه الآخرون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حب الثناء والمدح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شجاع ومقدا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الانفتاح على التجارب الإنسانية والمحيط الخارج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شعر بقدر كبير من الغبطة والسرور عندما يمارس العمل الذي يبدع في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صبو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9900"/>
                </a:solidFill>
                <a:latin typeface="Arial"/>
                <a:cs typeface="Monotype Koufi"/>
              </a:rPr>
              <a:t>شروط الإبداع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68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أصالة : أي قدرة الفرد على توليد أفكار جديدة 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طلاقة : أي قدرة الفرد على إنتاج كمية كبيرة من الأفكار 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ea typeface="Akhba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ea typeface="Akhba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ea typeface="Akhba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في وقت محدد ( بنك القدرة الإبداعية )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مرونة : أي تنوع الأفكار ( تتعلق بالكيف وليس بالكم )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حساسية : القدرة على تحسس المشكلات وإدراك طبيعتها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استنباطية : القدرة على الربط بين الأفكار في الوقت ذاته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e941c"/>
                </a:solidFill>
                <a:latin typeface="Arial"/>
                <a:cs typeface="Monotype Koufi"/>
              </a:rPr>
              <a:t>تجاوز المعوقات ومواجهة التحديات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2104560" y="1676160"/>
            <a:ext cx="59151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احذر من الإيحاءات السلبي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طاقتي محدود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رأيي غير مسمو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لا أستطيع مقاومة التيا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من النوع الذي يطبق الأوام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خاف الإحراج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7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/>
          </p:nvPr>
        </p:nvSpPr>
        <p:spPr>
          <a:xfrm>
            <a:off x="2123640" y="836640"/>
            <a:ext cx="5410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عالج نفسك بنفسك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ما هي طاقتي أو ميولي أو هوايت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كيف أستمتع بوقت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توجه إلى إنسان تثق به للاستشار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ما هي إيجابياتي وسلبيات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شجع نفسك وكافئها على ما أنجزت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لا تسخر من نفسك ، ولا تقلل من عملك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لا تحكم بسرعة على الأمو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9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28352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تعلم أساليب قتل الأفكار ... كي تتجنبها ( كن إيجابياً ومتفائلاً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عود نفسك أن تساهم بفكرة ولو كانت صغيرة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5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درب نفسك على تحريك خيالك باستمرار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6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لا تحرم نفسك لذة التفكير واستخدام طاقة عقلك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7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واصل التحدي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00"/>
                </a:solidFill>
                <a:latin typeface="Arial"/>
                <a:cs typeface="Monotype Koufi"/>
              </a:rPr>
              <a:t>أولاً مفهوم الإبدا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Arial"/>
                <a:cs typeface="Akhbar MT"/>
              </a:rPr>
              <a:t>قال الله تعالى :</a:t>
            </a:r>
            <a:br>
              <a:rPr sz="3200"/>
            </a:br>
            <a:r>
              <a:rPr b="1" lang="ar-SA" sz="3600" spc="-1" strike="noStrike">
                <a:solidFill>
                  <a:srgbClr val="e3e3ff"/>
                </a:solidFill>
                <a:latin typeface="Arial"/>
                <a:ea typeface="Akhbar MT"/>
              </a:rPr>
              <a:t>- (بديع السموات والأرض )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	</a:t>
            </a: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	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cs typeface="Akhbar MT"/>
              </a:rPr>
              <a:t>أي موجدهم لا على مثال سبق</a:t>
            </a:r>
            <a:br>
              <a:rPr sz="3200"/>
            </a:br>
            <a:br>
              <a:rPr sz="3200"/>
            </a:br>
            <a:r>
              <a:rPr b="1" lang="ar-SA" sz="3600" spc="-1" strike="noStrike">
                <a:solidFill>
                  <a:srgbClr val="e3e3ff"/>
                </a:solidFill>
                <a:latin typeface="Arial"/>
                <a:ea typeface="Akhbar MT"/>
              </a:rPr>
              <a:t>- ( قل ما كنت بدعا من الرسل وما أدري ما يفعل بي ولا بكم )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  <a:ea typeface="Akhbar MT"/>
              </a:rPr>
              <a:t> 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 </a:t>
            </a: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	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cs typeface="Akhbar MT"/>
              </a:rPr>
              <a:t>أي ما كنت أول مرسل بل سبق قبلي كثيرون منه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ee941c"/>
                </a:solidFill>
                <a:latin typeface="Arial"/>
                <a:cs typeface="Monotype Koufi"/>
              </a:rPr>
              <a:t>الإشراف الإبداعي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1680" y="1703160"/>
            <a:ext cx="85406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هو ذلك النوع الذي لا يقتصر على مجرد نتاج الأحسن ، وتقديم أعلى نوع من النشاط  الجمعي ، وإنما هو حفز الهمم ، وتحريك القدرات لدى المشرف لتخريج أحسن ما لديه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أي أن هذا النوع يعمل على استثمار قدرات المعلمين وإمكاناتهم العلمية والمهنية وإلى أقصى حد ممكن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ee941c"/>
                </a:solidFill>
                <a:latin typeface="Arial"/>
                <a:cs typeface="Monotype Koufi"/>
              </a:rPr>
              <a:t>صفات المشرف التربوي المبدع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مرونة التفكي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صبر واللباق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ثقة بقدراته المهن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رغبة في الاستفادة من تجارب وخبرات الآخري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إيمان بقدرات الآخري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رؤية الواضحة للأهداف التربوية ، والاستعداد للسير إلى أفضل السبل الموصلة لها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ffff"/>
                </a:solidFill>
                <a:latin typeface="Tahoma"/>
                <a:cs typeface="PT Bold Dusky"/>
              </a:rPr>
              <a:t>الإبداع :  فطري    ؟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ffff"/>
                </a:solidFill>
                <a:latin typeface="Tahoma"/>
                <a:cs typeface="PT Bold Dusky"/>
              </a:rPr>
              <a:t>الإبداع : مكتسب  ؟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9900"/>
                </a:solidFill>
                <a:latin typeface="Garamond"/>
                <a:cs typeface="Monotype Koufi"/>
              </a:rPr>
              <a:t>شكراً لإتاحة الفرصة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9900"/>
                </a:solidFill>
                <a:latin typeface="Garamond"/>
                <a:cs typeface="Monotype Koufi"/>
              </a:rPr>
              <a:t>و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9900"/>
                </a:solidFill>
                <a:latin typeface="Garamond"/>
                <a:cs typeface="Monotype Koufi"/>
              </a:rPr>
              <a:t>لحسن الإنصات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/>
          </p:nvPr>
        </p:nvSpPr>
        <p:spPr>
          <a:xfrm>
            <a:off x="250560" y="2420640"/>
            <a:ext cx="67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 Black"/>
                <a:ea typeface="Akhbar MT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مفهوم الإبداع 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عملية الإتيان بجديد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قدرة على حل المشكلات بأساليب جديدة تعجب السامع والمشاهد 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 تنظيم الأفكار وظهورها في بناء جديد انطلاقاً من عناصر موجود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 القدرة على تكوين تركيبات أو تنظيمات جديدة</a:t>
            </a:r>
            <a:r>
              <a:rPr b="0" lang="ar-SA" sz="3200" spc="-1" strike="noStrike">
                <a:solidFill>
                  <a:srgbClr val="ffffff"/>
                </a:solidFill>
                <a:latin typeface="Arial Black"/>
                <a:ea typeface="Akhbar MT"/>
              </a:rPr>
              <a:t>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9" name=""/>
          <p:cNvSpPr/>
          <p:nvPr/>
        </p:nvSpPr>
        <p:spPr>
          <a:xfrm>
            <a:off x="324000" y="308772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24000" y="347760"/>
            <a:ext cx="68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Akhbar MT"/>
              </a:rPr>
              <a:t>في اللغ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أبدعت الشيء 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اخترعته على غير مثال ساب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Akhbar MT"/>
              </a:rPr>
              <a:t>والمبدع 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هو المنشئ أو المحدث لأمر لم يسبقه إليه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  أحد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e103"/>
                </a:solidFill>
                <a:latin typeface="Arial Black"/>
                <a:cs typeface="PT Bold Stars"/>
              </a:rPr>
              <a:t>مصطلحات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7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خيال : هو التصور أو التوهم لشيء غير موجود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  <a:ea typeface="Akhbar MT"/>
              </a:rPr>
              <a:t>(أول خطوات الإبداع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ابتكار : هو الإبداع 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اختراع : الإبداع العلمي ( طائرة ، كمبيوتر ، صاروخ ، ....)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اكتشاف : كشف شيء موجود في الطبيعة وكيفية استعماله وتصنيعه </a:t>
            </a: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Akhbar MT"/>
              </a:rPr>
              <a:t>	</a:t>
            </a: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Akhbar MT"/>
              </a:rPr>
              <a:t>	</a:t>
            </a: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Akhbar MT"/>
              </a:rPr>
              <a:t>( المغناطيس، الكهرباء ، .....)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ذكاء : سرعة الفهم والاستنتاج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موهبة : قدرة خاصة تجعل المرء يتقن في مجال الموهبة 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موهوب ، والعبقري ، والمتفوق عقلياً : صفات لمن نسب ذكائهم عالية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6696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hi-IN" sz="4800" spc="-1" strike="noStrike">
                <a:solidFill>
                  <a:srgbClr val="ffcc00"/>
                </a:solidFill>
                <a:latin typeface="Arial Black"/>
                <a:cs typeface="Monotype Koufi"/>
              </a:rPr>
              <a:t>ثانياً : دوافع الإبداع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4400"/>
            </a:br>
            <a:br>
              <a:rPr sz="3600"/>
            </a:br>
            <a:r>
              <a:rPr b="1" lang="hi-IN" sz="4400" spc="-1" strike="noStrike">
                <a:solidFill>
                  <a:srgbClr val="ffe103"/>
                </a:solidFill>
                <a:latin typeface="Arial Black"/>
                <a:cs typeface="Akhbar MT"/>
              </a:rPr>
              <a:t>يمكن تصنيف هذه الدوافع إلى ما يلي :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 دوافع ذاتية داخلية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دوافع بيئية خارجية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دوافع مادية ومعنوية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دوافع خاصة بالعمل الإبداعية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4" name=""/>
          <p:cNvSpPr/>
          <p:nvPr/>
        </p:nvSpPr>
        <p:spPr>
          <a:xfrm>
            <a:off x="324000" y="3213000"/>
            <a:ext cx="84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250560" y="2349360"/>
            <a:ext cx="78469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1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- الدوافع الذاتية الداخلية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حماس في تحقيق الأهداف الشخصية ( يكون مفيداً للمجتمع )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رغبة في تقديم مساهمة مبتكرة وقيمة وصياغة جديدة مبتكرة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رغبة في معالجة الأشياء الغامضة والمعقد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رغبة في تجريب أكثر في مجال العمل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حصول على رضا النفس وتحقيق الذات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611280" y="2122560"/>
            <a:ext cx="726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2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-  الدوافع البيئية الخارجية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اجة إليه في مجالات العمل المختلف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يوية والنمو يحتاجان إلى ومضة الإبداع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تصدي للمشكلات العامة والخاصة يتطلب الإبداع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إننا في عالم سريع التغير ويحتاج إلى صنع الأحداث بطريقة إبداعي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إن التقدم والازدهار مرتبطان بقدراتنا الإبداعي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1258920" y="1341360"/>
            <a:ext cx="59738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- الدوافع المادية والمعنوية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مكافآت مالي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تقدير وثناء وسمعة وشهر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مرتبة علمية مرموق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درجة وظيفية متقدم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قبول الناس ورضاهم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خدمة الأمة أو الوطن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رضا الله سبحانه وتعالى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  <a:ea typeface="Akhbar MT"/>
              </a:rPr>
              <a:t> 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/>
          </p:nvPr>
        </p:nvSpPr>
        <p:spPr>
          <a:xfrm>
            <a:off x="539640" y="2773080"/>
            <a:ext cx="698040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4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 - الدوافع الخاصة بالعمل الإبداعي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623880" indent="-2397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رغبة الشديدة في إيجاد الفكرة والحصول عليها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6:55:50Z</dcterms:created>
  <dc:creator>Compaq User</dc:creator>
  <dc:description/>
  <dc:language>en-US</dc:language>
  <cp:lastModifiedBy>O</cp:lastModifiedBy>
  <dcterms:modified xsi:type="dcterms:W3CDTF">2003-04-06T21:42:46Z</dcterms:modified>
  <cp:revision>24</cp:revision>
  <dc:subject/>
  <dc:title>الشريحة 1</dc:title>
</cp:coreProperties>
</file>